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D2C6-6BA1-4123-BF20-0DA8008AF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C642-4920-4E18-BD96-0D228110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A7F2-CD25-4E04-B568-A3434F4B3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D882-BE6A-4514-A566-5F8D695B8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4E3B-A32C-42FC-9F44-90724B70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A591-11D3-40B8-A6E4-7AFDA2FD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C1FA-DA22-4DFB-BFFA-78A682F2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4758-DA05-41A0-A8B7-59E0DDB1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394F-5133-4A27-B6E0-4D6CA390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A5F1-B287-4E7E-9FD8-CFFB17AB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441F-0D0E-4B72-A0FC-EED31D61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C414-55E6-4DF1-9931-03F58ABE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9FC6-92DC-48E0-B02C-92CA25690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-76320"/>
            <a:ext cx="8458200" cy="702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8:41:46Z</dcterms:created>
  <dc:creator>OCDSB User</dc:creator>
  <dc:description/>
  <dc:language>en-US</dc:language>
  <cp:lastModifiedBy>OCDSB User</cp:lastModifiedBy>
  <dcterms:modified xsi:type="dcterms:W3CDTF">2012-04-26T18:42:10Z</dcterms:modified>
  <cp:revision>1</cp:revision>
  <dc:subject/>
  <dc:title>Slide 1</dc:title>
</cp:coreProperties>
</file>